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C55-81CB-4247-99BD-FBA21665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0A8-7306-48E5-B18F-F93FCD6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114-0CB3-4752-8F55-68F4A76A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925-BE53-4899-AAE3-DB895F52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D653-26E4-421E-8AB1-81B0C722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5117-D084-4981-A985-786CE43A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BCD-3612-4D87-BA1E-29337CA5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699-2F85-49DF-9EE0-D8A96AF1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17D-E8B2-47AC-9C33-9B275B1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ADE0-5465-47BC-A3C0-28CDE7E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0087-07F9-4A4E-86FF-0244A4D5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B52-6AEE-4812-B490-767D3F5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680-8BD6-4231-AFA0-641CE55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620D-D9AC-44C0-AFE0-13E7A81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1E4D-D22E-4D12-8E78-1A6B651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FC5-EF92-4D65-9621-184F0806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04AC-3FB5-4626-8C1D-945AA64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0E3-AC57-477C-893A-9AB2595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85C-163F-4E2D-ADBA-A3C449D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C32-6455-46F6-B76B-4FFCA991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47E-AE4C-4B85-A406-60107903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F07-AE72-4B78-B88E-26AF454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DBF-389D-4B48-B506-47360DC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F7A-C554-4107-B649-3FE5195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04B-42CC-4A11-A73E-37EC98FE1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073-94DC-43D9-ADBB-D4A793AEC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drock Architectural Q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n Going Discussion of Architectural Issues in the Redrock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“Design by Contra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76720" y="2743200"/>
            <a:ext cx="2349360" cy="240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2480" y="5334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ent 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1280" y="5257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7400" y="53341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8960" y="33847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600" y="3384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“Design by Contract”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and contract (interface) can be developed at different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ient developer doesn’t have to wait for the implementation developer to finish implem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s workflow bottlenecks when working with depend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components can be developed in parallel yielding better through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multiple implementations of the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97180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act (Interf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op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191120"/>
            <a:ext cx="17524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oting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75248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ck Proxy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t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91320"/>
            <a:ext cx="28191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791320"/>
            <a:ext cx="25146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h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3580920"/>
            <a:ext cx="2133720" cy="2210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790960" y="3276360"/>
            <a:ext cx="1981080" cy="609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352320"/>
            <a:ext cx="1371600" cy="304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09680" y="388620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64796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00" y="39625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curity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ption Handling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formance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ory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0" y="4724280"/>
            <a:ext cx="20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jb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text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binary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ava serialization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services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2743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1640" y="262260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Means impleme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ows for Restricted Roles in Object Desig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implementation developer freedom to extend an implementing object beyond an interface contr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s roles to clien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191120"/>
            <a:ext cx="167652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Valid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191120"/>
            <a:ext cx="25146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hemaSymbolMapProvi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410080"/>
            <a:ext cx="167616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(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114800"/>
            <a:ext cx="16765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16765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ml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ahoma"/>
              </a:rPr>
              <a:t>setSomeDependenc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52574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86040" y="5181120"/>
            <a:ext cx="160020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86600" y="5105520"/>
            <a:ext cx="609480" cy="30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5:12:31Z</dcterms:created>
  <dc:creator>CACI</dc:creator>
  <dc:description/>
  <dc:language>en-US</dc:language>
  <cp:lastModifiedBy>CACI</cp:lastModifiedBy>
  <dcterms:modified xsi:type="dcterms:W3CDTF">2006-10-18T19:22:04Z</dcterms:modified>
  <cp:revision>7</cp:revision>
  <dc:subject/>
  <dc:title>Redrock I8 Code Review</dc:title>
</cp:coreProperties>
</file>